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99B0-2F31-44F4-8A16-F227DC951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B648-35FC-4F31-8877-E2EB9849D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60C4-B28F-4B43-BEE1-7CF5E9797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1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5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1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840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603D-F114-4A2D-A346-F0BBBAA72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1522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F249-EFFA-4E35-A5FE-7DE2B0AFB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1465-7AD9-4B71-8E01-6E0C94C30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FCCD-62CD-43A5-9BCA-279BFEF5C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3D9D-0D3F-4464-8011-2BE188608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1522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5958-922B-4A6F-B1A1-CA64E20F1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B1C1-3253-47C4-87E7-5BFF89072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DDD6-1082-4AD0-8157-740533F84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8957-B452-40B9-ABF6-DAD74F465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80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4008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ACD-E552-49CE-A1A8-7E5C23676210}" type="slidenum">
              <a:rPr b="0" lang="nl-NL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9685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4876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29685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noc@netherlight.net" TargetMode="External"/><Relationship Id="rId2" Type="http://schemas.openxmlformats.org/officeDocument/2006/relationships/hyperlink" Target="mailto:admin@netherlight.net" TargetMode="External"/><Relationship Id="rId3" Type="http://schemas.openxmlformats.org/officeDocument/2006/relationships/hyperlink" Target="http://noc.netherlight.net:8080/spotligh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4876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VLBI update</a:t>
            </a:r>
            <a:br>
              <a:rPr sz="32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29 January 2008, Wouter Huism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915040" y="662904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SURFnet &amp; NetherLig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27640" y="1341360"/>
            <a:ext cx="4392360" cy="4896000"/>
            <a:chOff x="4427640" y="1341360"/>
            <a:chExt cx="4392360" cy="48960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427640" y="1341360"/>
              <a:ext cx="4392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6291360" y="2513160"/>
              <a:ext cx="1526760" cy="89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14560" y="1484280"/>
            <a:ext cx="3187440" cy="2206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22560" y="1484280"/>
            <a:ext cx="230508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429000"/>
            <a:ext cx="316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7CA8-9EA9-4C30-B71B-F2653A89F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Current sit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urrent setup support two connection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ightpa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P conne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109C-C9BC-48CD-A3C2-7255C8B1DF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Current status: JIVE -SURFne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2492280"/>
          <a:ext cx="82915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29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C8CF-2D7D-4469-BC5B-D37A953F62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Current status lightpath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ANT+ circu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dic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zn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KLight (2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LIF 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heshan (622Mb) 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wingeloo – AMS – CHG – Seattle – Hongkong – Shangh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TNF (1 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in Oct 2007 test with 3 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wingeloo – AMS – CHG – Seattle – Hawaii – Sydn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531D-9E59-42E7-991A-B8FDA9E856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therLight N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r service &amp; support </a:t>
            </a:r>
            <a:r>
              <a:rPr b="0" lang="nl-NL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noc@netherlight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r new request </a:t>
            </a:r>
            <a:r>
              <a:rPr b="0" lang="nl-NL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admin@netherlight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Check status of your lightpath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noc.netherlight.net:8080/spotligh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SURFnet/NetherLight is 24x7, but we have decided that test/demo lightpaths will be service NBD (next business day), if a special test is scheduled we can make excep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2E4A-7A45-4DE1-948F-EDCD5691D7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156440" cy="11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ross Border Fiber to Ham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urrently 5x 10G channels 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onnectivity Jodrell Bank/Jive via Nordunet to Metsahovi and Ons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7040" y="2924280"/>
            <a:ext cx="6689880" cy="3313080"/>
            <a:chOff x="347040" y="2924280"/>
            <a:chExt cx="6689880" cy="3313080"/>
          </a:xfrm>
        </p:grpSpPr>
        <p:sp>
          <p:nvSpPr>
            <p:cNvPr id="103" name=""/>
            <p:cNvSpPr/>
            <p:nvPr/>
          </p:nvSpPr>
          <p:spPr>
            <a:xfrm>
              <a:off x="4140360" y="3068640"/>
              <a:ext cx="43164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47040" y="2924280"/>
              <a:ext cx="6689880" cy="3313080"/>
              <a:chOff x="347040" y="2924280"/>
              <a:chExt cx="6689880" cy="3313080"/>
            </a:xfrm>
          </p:grpSpPr>
          <p:sp>
            <p:nvSpPr>
              <p:cNvPr id="105" name=""/>
              <p:cNvSpPr/>
              <p:nvPr/>
            </p:nvSpPr>
            <p:spPr>
              <a:xfrm>
                <a:off x="4643280" y="3789360"/>
                <a:ext cx="1800" cy="1152360"/>
              </a:xfrm>
              <a:custGeom>
                <a:avLst/>
                <a:gdLst/>
                <a:ahLst/>
                <a:rect l="l" t="t" r="r" b="b"/>
                <a:pathLst>
                  <a:path w="1" h="726">
                    <a:moveTo>
                      <a:pt x="0" y="726"/>
                    </a:moveTo>
                    <a:cubicBezTo>
                      <a:pt x="0" y="423"/>
                      <a:pt x="0" y="12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347040" y="2924280"/>
                <a:ext cx="6689880" cy="3313080"/>
                <a:chOff x="347040" y="2924280"/>
                <a:chExt cx="6689880" cy="3313080"/>
              </a:xfrm>
            </p:grpSpPr>
            <p:graphicFrame>
              <p:nvGraphicFramePr>
                <p:cNvPr id="107" name=""/>
                <p:cNvGraphicFramePr/>
                <p:nvPr/>
              </p:nvGraphicFramePr>
              <p:xfrm>
                <a:off x="2700360" y="4292640"/>
                <a:ext cx="3429000" cy="1260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700360" y="4292640"/>
                          <a:ext cx="3429000" cy="1260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9" name=""/>
                <p:cNvSpPr/>
                <p:nvPr/>
              </p:nvSpPr>
              <p:spPr>
                <a:xfrm>
                  <a:off x="3132000" y="4870440"/>
                  <a:ext cx="28764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00720" y="350208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500720" y="4941720"/>
                  <a:ext cx="287280" cy="2876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58920" y="595008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7040" y="5608800"/>
                  <a:ext cx="1108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Jodrell Bank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24800" y="3500280"/>
                  <a:ext cx="470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No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547640" y="5229360"/>
                  <a:ext cx="3095640" cy="1008000"/>
                </a:xfrm>
                <a:custGeom>
                  <a:avLst/>
                  <a:gdLst/>
                  <a:ahLst/>
                  <a:rect l="l" t="t" r="r" b="b"/>
                  <a:pathLst>
                    <a:path w="1950" h="635">
                      <a:moveTo>
                        <a:pt x="0" y="544"/>
                      </a:moveTo>
                      <a:cubicBezTo>
                        <a:pt x="404" y="589"/>
                        <a:pt x="809" y="635"/>
                        <a:pt x="1134" y="544"/>
                      </a:cubicBezTo>
                      <a:cubicBezTo>
                        <a:pt x="1459" y="453"/>
                        <a:pt x="1806" y="106"/>
                        <a:pt x="195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51280" y="292428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796000" y="306864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4788000" y="3213000"/>
                  <a:ext cx="1079280" cy="4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18040" y="2938320"/>
                  <a:ext cx="67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Onsa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13880" y="3154320"/>
                  <a:ext cx="923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Metsahov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"/>
          <p:cNvSpPr/>
          <p:nvPr/>
        </p:nvSpPr>
        <p:spPr>
          <a:xfrm>
            <a:off x="971640" y="2924280"/>
            <a:ext cx="3828960" cy="3349440"/>
          </a:xfrm>
          <a:custGeom>
            <a:avLst/>
            <a:gdLst/>
            <a:ahLst/>
            <a:rect l="l" t="t" r="r" b="b"/>
            <a:pathLst>
              <a:path w="2412" h="2110">
                <a:moveTo>
                  <a:pt x="1588" y="0"/>
                </a:moveTo>
                <a:cubicBezTo>
                  <a:pt x="1781" y="12"/>
                  <a:pt x="1974" y="24"/>
                  <a:pt x="2087" y="137"/>
                </a:cubicBezTo>
                <a:cubicBezTo>
                  <a:pt x="2200" y="250"/>
                  <a:pt x="2238" y="477"/>
                  <a:pt x="2268" y="681"/>
                </a:cubicBezTo>
                <a:cubicBezTo>
                  <a:pt x="2298" y="885"/>
                  <a:pt x="2412" y="1142"/>
                  <a:pt x="2268" y="1361"/>
                </a:cubicBezTo>
                <a:cubicBezTo>
                  <a:pt x="2124" y="1580"/>
                  <a:pt x="1784" y="1882"/>
                  <a:pt x="1406" y="1996"/>
                </a:cubicBezTo>
                <a:cubicBezTo>
                  <a:pt x="1028" y="2110"/>
                  <a:pt x="514" y="2076"/>
                  <a:pt x="0" y="2042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2852640"/>
            <a:ext cx="2192040" cy="2341800"/>
          </a:xfrm>
          <a:custGeom>
            <a:avLst/>
            <a:gdLst/>
            <a:ahLst/>
            <a:rect l="l" t="t" r="r" b="b"/>
            <a:pathLst>
              <a:path w="1381" h="1475">
                <a:moveTo>
                  <a:pt x="627" y="0"/>
                </a:moveTo>
                <a:cubicBezTo>
                  <a:pt x="820" y="12"/>
                  <a:pt x="1013" y="24"/>
                  <a:pt x="1126" y="137"/>
                </a:cubicBezTo>
                <a:cubicBezTo>
                  <a:pt x="1239" y="250"/>
                  <a:pt x="1277" y="477"/>
                  <a:pt x="1307" y="681"/>
                </a:cubicBezTo>
                <a:cubicBezTo>
                  <a:pt x="1337" y="885"/>
                  <a:pt x="1381" y="1247"/>
                  <a:pt x="1307" y="1361"/>
                </a:cubicBezTo>
                <a:cubicBezTo>
                  <a:pt x="1233" y="1475"/>
                  <a:pt x="1002" y="1373"/>
                  <a:pt x="861" y="1368"/>
                </a:cubicBezTo>
                <a:cubicBezTo>
                  <a:pt x="720" y="1363"/>
                  <a:pt x="602" y="1345"/>
                  <a:pt x="458" y="1333"/>
                </a:cubicBezTo>
                <a:cubicBezTo>
                  <a:pt x="314" y="1321"/>
                  <a:pt x="95" y="1305"/>
                  <a:pt x="0" y="1298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978440"/>
            <a:ext cx="3541680" cy="1270080"/>
          </a:xfrm>
          <a:custGeom>
            <a:avLst/>
            <a:gdLst/>
            <a:ahLst/>
            <a:rect l="l" t="t" r="r" b="b"/>
            <a:pathLst>
              <a:path w="2231" h="800">
                <a:moveTo>
                  <a:pt x="953" y="22"/>
                </a:moveTo>
                <a:cubicBezTo>
                  <a:pt x="1539" y="11"/>
                  <a:pt x="2125" y="0"/>
                  <a:pt x="2178" y="113"/>
                </a:cubicBezTo>
                <a:cubicBezTo>
                  <a:pt x="2231" y="226"/>
                  <a:pt x="1633" y="604"/>
                  <a:pt x="1270" y="702"/>
                </a:cubicBezTo>
                <a:cubicBezTo>
                  <a:pt x="907" y="800"/>
                  <a:pt x="212" y="710"/>
                  <a:pt x="0" y="702"/>
                </a:cubicBezTo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3068640"/>
            <a:ext cx="3816360" cy="2149560"/>
          </a:xfrm>
          <a:custGeom>
            <a:avLst/>
            <a:gdLst/>
            <a:ahLst/>
            <a:rect l="l" t="t" r="r" b="b"/>
            <a:pathLst>
              <a:path w="2404" h="1354">
                <a:moveTo>
                  <a:pt x="0" y="1089"/>
                </a:moveTo>
                <a:cubicBezTo>
                  <a:pt x="56" y="1100"/>
                  <a:pt x="113" y="1111"/>
                  <a:pt x="317" y="1134"/>
                </a:cubicBezTo>
                <a:cubicBezTo>
                  <a:pt x="521" y="1157"/>
                  <a:pt x="1051" y="1354"/>
                  <a:pt x="1225" y="1225"/>
                </a:cubicBezTo>
                <a:cubicBezTo>
                  <a:pt x="1399" y="1096"/>
                  <a:pt x="1164" y="567"/>
                  <a:pt x="1361" y="363"/>
                </a:cubicBezTo>
                <a:cubicBezTo>
                  <a:pt x="1558" y="159"/>
                  <a:pt x="1981" y="79"/>
                  <a:pt x="2404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852640"/>
            <a:ext cx="3240000" cy="804960"/>
          </a:xfrm>
          <a:custGeom>
            <a:avLst/>
            <a:gdLst/>
            <a:ahLst/>
            <a:rect l="l" t="t" r="r" b="b"/>
            <a:pathLst>
              <a:path w="2041" h="507">
                <a:moveTo>
                  <a:pt x="0" y="0"/>
                </a:moveTo>
                <a:cubicBezTo>
                  <a:pt x="245" y="72"/>
                  <a:pt x="491" y="144"/>
                  <a:pt x="635" y="227"/>
                </a:cubicBezTo>
                <a:cubicBezTo>
                  <a:pt x="779" y="310"/>
                  <a:pt x="627" y="507"/>
                  <a:pt x="861" y="499"/>
                </a:cubicBezTo>
                <a:cubicBezTo>
                  <a:pt x="1095" y="491"/>
                  <a:pt x="1844" y="227"/>
                  <a:pt x="2041" y="182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260880"/>
            <a:ext cx="5413320" cy="3093840"/>
          </a:xfrm>
          <a:custGeom>
            <a:avLst/>
            <a:gdLst/>
            <a:ahLst/>
            <a:rect l="l" t="t" r="r" b="b"/>
            <a:pathLst>
              <a:path w="3410" h="1949">
                <a:moveTo>
                  <a:pt x="3410" y="0"/>
                </a:moveTo>
                <a:cubicBezTo>
                  <a:pt x="3228" y="50"/>
                  <a:pt x="2525" y="89"/>
                  <a:pt x="2320" y="299"/>
                </a:cubicBezTo>
                <a:cubicBezTo>
                  <a:pt x="2115" y="509"/>
                  <a:pt x="2353" y="1003"/>
                  <a:pt x="2178" y="1262"/>
                </a:cubicBezTo>
                <a:cubicBezTo>
                  <a:pt x="2003" y="1521"/>
                  <a:pt x="1633" y="1753"/>
                  <a:pt x="1270" y="1851"/>
                </a:cubicBezTo>
                <a:cubicBezTo>
                  <a:pt x="907" y="1949"/>
                  <a:pt x="212" y="1859"/>
                  <a:pt x="0" y="1851"/>
                </a:cubicBezTo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4097160"/>
            <a:ext cx="201636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Build a layer 2 network, with full mesh VLAN connectivity between the 4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41C0-6E18-4235-B120-7CE391541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156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ross Border Fiber to Aac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onnectivity to Effelsberg upto 10G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ANT+ Point-to-point, we have a second bundle of 9 lightpaths ready to 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D4AB-1248-4206-90D8-794950058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hank you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uter.huisman@surfnet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C1BD-F023-4155-8C0A-1928296B4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9:07:27Z</dcterms:created>
  <dc:creator>Wouter Huisman</dc:creator>
  <dc:description/>
  <dc:language>en-US</dc:language>
  <cp:lastModifiedBy>Wouter Huisman</cp:lastModifiedBy>
  <dcterms:modified xsi:type="dcterms:W3CDTF">2008-01-29T12:06:23Z</dcterms:modified>
  <cp:revision>10</cp:revision>
  <dc:subject/>
  <dc:title>eVLBI update</dc:title>
</cp:coreProperties>
</file>